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1.png" ContentType="image/png"/>
  <Override PartName="/ppt/media/image8.pct" ContentType="image/x-pict"/>
  <Override PartName="/ppt/media/image13.pct" ContentType="image/x-pict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E393-338E-4230-8E10-BA34D9BC7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41EB-00DB-4BA3-9A0B-BAB2CCBB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F82A-0D84-4755-879B-8044B0D94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7345-C0EB-4739-986C-BFD763A2E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9910-EFE6-4E5B-A0B2-26B9D9C98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B281-95FD-4890-AB97-90577855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3602-1A7B-4B31-8D0A-E147CFA3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77F4-47C7-46AE-AF07-F0C8549D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7BD84-0950-4C33-BE0C-9ABBB113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8A16C-3DF0-4FC7-887B-19772132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E1E8-D9D2-4A8B-B7D5-D3152BC3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FC71-A244-42B7-9EFD-B7FA8BE5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5CF7-53D0-4190-84B0-92CC78E7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DC6B-8584-45C3-8291-730BEF1D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0DC6-A422-4A82-B3E3-2A9D924C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6B0F-2E8C-4B8B-87D2-78BAFA7E7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8459-0EF1-4FFB-8282-1036E5ACB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E5AC7-0D63-42AD-8AD7-0ACAB1E2F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70C36-41FC-4AA2-AE53-3A615288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FC280-01C6-44BF-927F-E4826579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A1BAA-69F4-4D47-ADFA-A7055265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AB7F3-1C9F-4BE3-9DE8-297D4A51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DE30-8639-404E-8436-83000FEE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47042-22AE-4AE9-AD95-0F81DE21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7B3CD-B574-45F4-8711-B6347CDA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43B87-6C57-4A7F-A380-197550F0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A0630-0B88-4C14-AF54-BFA36BB5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598CA-4ABB-4A54-AE83-E1F5B4BD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F1EBE-0AEB-4E6B-AFFC-3053D00EF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02A1F-1C50-4552-B5F9-73A49301B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34561-E229-4821-8208-13622BCEE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12D65-FEB4-4A5E-B5D6-49E37DF7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5D216-3092-4063-8B4F-600A6F5A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DB43-9284-42D9-A012-4EAA99C1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50A13-285F-4599-A172-4D752DE2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421FA-8E60-4C07-A802-BA398C01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B8241-B2E6-47B8-BA6B-B8690E2E9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F43FC-9086-4B71-A459-18D135F5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6DE86-264E-4017-8C69-64ED4B4C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208BE-0845-48AC-884E-7C602604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9051C-34A9-44F5-A6B4-557852BD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F8D82-540C-42C5-A4B3-0939B4B8F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3C79D-AF2B-44A6-B49F-DE27896BF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EC66-D068-4178-8389-B80AAEFB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C4E2-ACE4-4F75-AC48-A23CB1A6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8229-9F1F-446A-8DCF-D605B113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D33A-CDA9-44AC-AC4A-51674A6D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9FD4-A8C3-437B-8592-F7D35F7C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FF86-7E87-40D4-BA8C-81159E2DBF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FDA0-F285-4FD6-AA8B-DEAE181988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790C-8052-4346-9102-33D5153E2A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04E4-4220-4BC7-9EAD-0E5C0857F2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3300"/>
                </a:solidFill>
                <a:latin typeface="Chalkboard"/>
              </a:rPr>
              <a:t>Mesopotamia </a:t>
            </a:r>
            <a:br>
              <a:rPr sz="5100"/>
            </a:br>
            <a:br>
              <a:rPr sz="5100"/>
            </a:br>
            <a:r>
              <a:rPr b="0" lang="en-US" sz="5100" spc="-1" strike="noStrike">
                <a:solidFill>
                  <a:srgbClr val="003300"/>
                </a:solidFill>
                <a:latin typeface="Chalkboard"/>
              </a:rPr>
              <a:t>The development of cities</a:t>
            </a: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1752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Reading.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We are going to read a little bit about this fascinating FIRST city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Please open your Human Heritage books to page 55. 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ndependently, please read pages 55 - 59.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Use the ORGANIZER to help you find details about the BIG IDEAS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335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e second city during Mesopotamian times was actually an EMPIRE!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es anyone know what the difference is?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An empire is a MUCH LARGER area of land ruled by only ONE person!!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0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Akkad/Assyria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argon the First conquered the city states located around Sumer one by one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s Sargon and his army took over these city states they used the Sumerian gods and Sumerian forms of writing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argon the First was the ruler of this LARGE empire, and became one of the MOST POWERFUL people!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4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Babylon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e third city is known as Babylon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parate city - states again gained control of power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Hammurabi was the leader of all of these separate city states, and he created a new code of laws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We are going to talk A LOT about Hammurabis laws, a little later on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Reading.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We are going to do another reading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Please open your red text books to page 61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Please read pages 61 - 63.  Stop when you see Section Two Assessment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We are going to complete the section two assessment in partner pairs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NEED TO DO QUESTIONS 1, 2, and 3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N YOUR OWN PAPER!!!!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900" fill="hold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ontributions!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Now that you know a little bit about the area of Mesopotamia and the major city-states that existed here, we are going to talk a bit about what they left behind!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ivilization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umerians developed the earliest known civilization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umerians have been called the “Cradle of Civilization”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Why do you think this area is known as the “Cradle of Civilization”?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8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8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8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Inventions!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merians invented MANY things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e Wheel -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Which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helped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ransportation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3733920" y="2819520"/>
            <a:ext cx="42670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10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e Plow - Which made it possible for farmers to grow more food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886200" cy="29080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5638680" y="1143000"/>
            <a:ext cx="30909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00"/>
                </a:solidFill>
                <a:latin typeface="Arial"/>
              </a:rPr>
              <a:t>The Sailboat - Which replaced muscle power with WIND power.</a:t>
            </a:r>
            <a:endParaRPr b="0" lang="en-US" sz="25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5638680" y="1752480"/>
            <a:ext cx="2617920" cy="32004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1447920" y="2133720"/>
            <a:ext cx="28652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Development of citie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Before 3,500 bc most people were traveling nomads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 nomad is a person who doesn’t have a permanent home, and who travels from place to place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Who wants to take a guess as to why these people were always traveling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00"/>
                </a:solidFill>
                <a:latin typeface="Arial"/>
              </a:rPr>
              <a:t>The Calendar - The first 12 Month calendar was developed based on the cycles of the moon.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3892680" cy="44830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1600200" y="2057400"/>
            <a:ext cx="1650960" cy="12445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2209680" y="3048120"/>
            <a:ext cx="1879560" cy="16002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914400" y="342900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Mesopotamia and MATH!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People during this time developed a number system based on 60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rom this came the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60 - minute Hou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60 - second minut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360 degree circl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Macintosh HD:Users:rjadick:Desktop:The_Impact_of_the_Babylonians.mov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479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2" dur="1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ATLAS!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We are going to complete an atlas activity!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Please get into RESPONSIBLE partners!!!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Or, you may work alone :)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REATE A CITY - STATE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You are now going to be responsible for creating your OWN city - states since we have spent so much time talking about them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1219320" y="0"/>
          <a:ext cx="68436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0"/>
                    <a:ext cx="6843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Levees? What’s the big deal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24"/>
              </a:spcBef>
              <a:buSzPct val="13168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00"/>
                </a:solidFill>
                <a:latin typeface="Arial"/>
              </a:rPr>
              <a:t>Levees were created which helped provide rich soil which helped to grow food, people were on their way to having permanent homes.</a:t>
            </a:r>
            <a:endParaRPr b="0" lang="en-US" sz="2500" spc="-1" strike="noStrike">
              <a:solidFill>
                <a:srgbClr val="0033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24"/>
              </a:spcBef>
              <a:buSzPct val="13168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00"/>
                </a:solidFill>
                <a:latin typeface="Arial"/>
              </a:rPr>
              <a:t>Because growing food is important for civilization (REMEMBER IT IS ONE OF THE EIGHT SIGNS), communities began to develop around the levees.</a:t>
            </a:r>
            <a:endParaRPr b="0" lang="en-US" sz="2500" spc="-1" strike="noStrike">
              <a:solidFill>
                <a:srgbClr val="0033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24"/>
              </a:spcBef>
              <a:buSzPct val="1316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00"/>
                </a:solidFill>
                <a:latin typeface="Arial"/>
              </a:rPr>
              <a:t>Does anyone want to take a guess as to why communities began to develop around these levees?</a:t>
            </a:r>
            <a:endParaRPr b="0" lang="en-US" sz="2500" spc="-1" strike="noStrike">
              <a:solidFill>
                <a:srgbClr val="0033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ity - State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ese levees created areas where people gathered and lived permanently, and they led to the worlds first city - states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Each city - state was an organized civilization, which was protected against attacks from other by HUGE WALLS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Inside each city - states walls there were temples.  The temples were the center of the city - states. The temples were viewed as the MOST IMPORATNT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Temples RULE!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In ancient times, temples did rule!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Each city - state was though to belong to a different god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emples were built to pray to the god that was in charge of the city - state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Mesopotamian Citie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We completed a map yesterday that showed us where Mesopotamia was. 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ere were THREE very important cities that developed in this area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1.  SUM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2.  ASSYRIA (Akkad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3.  BABYL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4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4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471160" cy="633744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  <p:sp>
        <p:nvSpPr>
          <p:cNvPr id="177" name=""/>
          <p:cNvSpPr/>
          <p:nvPr/>
        </p:nvSpPr>
        <p:spPr>
          <a:xfrm>
            <a:off x="4572000" y="2590920"/>
            <a:ext cx="762120" cy="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91320" y="3962520"/>
            <a:ext cx="761760" cy="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934320" y="4343400"/>
            <a:ext cx="761760" cy="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67080" y="2362320"/>
            <a:ext cx="304920" cy="228600"/>
          </a:xfrm>
          <a:prstGeom prst="star5">
            <a:avLst/>
          </a:prstGeom>
          <a:solidFill>
            <a:srgbClr val="ff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4038480"/>
            <a:ext cx="304560" cy="228600"/>
          </a:xfrm>
          <a:prstGeom prst="star5">
            <a:avLst/>
          </a:prstGeom>
          <a:solidFill>
            <a:srgbClr val="ff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3657600"/>
            <a:ext cx="304920" cy="228600"/>
          </a:xfrm>
          <a:prstGeom prst="star5">
            <a:avLst/>
          </a:prstGeom>
          <a:solidFill>
            <a:srgbClr val="ff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1676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Sumer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e first city was SUMER, in 3,500 BC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mer is the earliest known civilization on EARTH!!!!!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n Sumer they used mud to build the first houses and the people here were known as the FIRST city builders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People in Sumer created CUNEIFORM writing (which you all saw yesterday)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Macintosh HD:Users:robinbelardo:Documents:2004 - 2005 EMS:6th Grade NEW curriclum:Rise of Civilization:Mesopotamia__From_Nomads_to_Farmers.mov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9250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7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2:49:43Z</dcterms:created>
  <dc:creator>Cecil County</dc:creator>
  <dc:description/>
  <dc:language>en-US</dc:language>
  <cp:lastModifiedBy>CCPS</cp:lastModifiedBy>
  <dcterms:modified xsi:type="dcterms:W3CDTF">2009-09-29T12:06:36Z</dcterms:modified>
  <cp:revision>11</cp:revision>
  <dc:subject/>
  <dc:title>Mesopotamia   The development of cities </dc:title>
</cp:coreProperties>
</file>